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49DC8-799B-4440-8294-218409F3D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DC353-F190-4296-858B-73F3859D6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B0176-6887-41E7-9C03-3C30E4502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13139-0D3E-4117-8CAA-8CAB9447E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FCF63B-07C6-4963-8329-550836E587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27095-0829-46F9-8D80-92A3BEDAC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46DC9-DED2-4014-B386-211B8807F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B30EA-816B-40AB-BA66-A1A33FE33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77F0C-6F6B-451D-8086-FDBCC15D3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B1A19-8DE8-4CB4-9FE3-64C3E63FF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7469E-9148-4652-AB04-EC4F1B1FA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832FA-BED5-4B65-928D-EAE5DD392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60478-6E3F-4AB7-9BFF-78B3C78AF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6F6FC-32F7-4595-ACC2-4FA2D6420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7E1D9-A736-4909-8903-43D4C4450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045A87-9F78-41C8-BDB1-AD1AEE8B83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985077-7C77-48AB-AA9E-E129B8C58A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2B7E0-E670-442D-B7E1-C14680031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72702-AD7F-472C-A71A-9AF51DBAE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078CB-3301-48E4-8BAA-A505E9AE6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A134B-80E2-44D9-95AE-0C7530915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AE425-0284-4EAA-8D1B-580131BC3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1A0F7-5DB6-4F45-B627-E053BEF24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EBA8D-9F76-4425-8BFF-43FC90FB0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04955-F72A-4AC1-8FF2-35DF7AAE977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52083-5EB1-4166-8A36-8C401C15DDC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BarackObama2005portrait.jpg"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arack Obama </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irst black president</a:t>
            </a:r>
            <a:endParaRPr b="0" lang="en-US" sz="3200" spc="-1" strike="noStrike">
              <a:solidFill>
                <a:srgbClr val="ffffff"/>
              </a:solidFill>
              <a:latin typeface="Tahom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elping the troops</a:t>
            </a:r>
            <a:endParaRPr b="1" lang="en-US" sz="44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rack Obama is prepared to call back all troops</a:t>
            </a:r>
            <a:endParaRPr b="0" lang="en-US" sz="3200" spc="-1" strike="noStrike">
              <a:solidFill>
                <a:srgbClr val="ffffff"/>
              </a:solidFill>
              <a:latin typeface="Tahoma"/>
            </a:endParaRPr>
          </a:p>
        </p:txBody>
      </p:sp>
      <p:pic>
        <p:nvPicPr>
          <p:cNvPr id="113" name="" descr=""/>
          <p:cNvPicPr/>
          <p:nvPr/>
        </p:nvPicPr>
        <p:blipFill>
          <a:blip r:embed="rId1"/>
          <a:stretch/>
        </p:blipFill>
        <p:spPr>
          <a:xfrm>
            <a:off x="4267080" y="2819520"/>
            <a:ext cx="4686480" cy="3809880"/>
          </a:xfrm>
          <a:prstGeom prst="rect">
            <a:avLst/>
          </a:prstGeom>
          <a:ln w="0">
            <a:noFill/>
          </a:ln>
        </p:spPr>
      </p:pic>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e’s ready</a:t>
            </a:r>
            <a:endParaRPr b="1" lang="en-US" sz="4400" spc="-1" strike="noStrike">
              <a:solidFill>
                <a:srgbClr val="eaeaea"/>
              </a:solidFill>
              <a:latin typeface="Tahoma"/>
            </a:endParaRPr>
          </a:p>
        </p:txBody>
      </p:sp>
      <p:sp>
        <p:nvSpPr>
          <p:cNvPr id="11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ov. 5, 2008</a:t>
            </a:r>
            <a:r>
              <a:rPr b="0" lang="en-US" sz="3200" spc="-1" strike="noStrike">
                <a:solidFill>
                  <a:srgbClr val="ffffff"/>
                </a:solidFill>
                <a:latin typeface="Tahoma"/>
              </a:rPr>
              <a:t> </a:t>
            </a:r>
            <a:endParaRPr b="0" lang="en-US" sz="3200" spc="-1" strike="noStrike">
              <a:solidFill>
                <a:srgbClr val="ffffff"/>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rack Obama cruised to victory Tuesday night in an historic triumph that promised change, overcame centuries of prejudice and fulfilled Martin Luther King's dream that a man be judged not by the color of his skin, but by the content of his character.</a:t>
            </a:r>
            <a:endParaRPr b="0" lang="en-US" sz="3200" spc="-1" strike="noStrike">
              <a:solidFill>
                <a:srgbClr val="ffffff"/>
              </a:solidFill>
              <a:latin typeface="Tahoma"/>
            </a:endParaRPr>
          </a:p>
        </p:txBody>
      </p:sp>
      <p:pic>
        <p:nvPicPr>
          <p:cNvPr id="116" name="" descr="Barack Obama">
            <a:hlinkClick r:id="rId1"/>
          </p:cNvPr>
          <p:cNvPicPr/>
          <p:nvPr/>
        </p:nvPicPr>
        <p:blipFill>
          <a:blip r:embed="rId2"/>
          <a:stretch/>
        </p:blipFill>
        <p:spPr>
          <a:xfrm>
            <a:off x="7162920" y="4572000"/>
            <a:ext cx="1441440" cy="2093760"/>
          </a:xfrm>
          <a:prstGeom prst="rect">
            <a:avLst/>
          </a:prstGeom>
          <a:ln w="0">
            <a:noFill/>
          </a:ln>
        </p:spPr>
      </p:pic>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ahoma"/>
              </a:rPr>
              <a:t>Barack Hussein Obama II</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rack Obama was born in Hawaii on August 4th, 1961. His father, Barack Obama Sr., was born and raised in a small village in Kenya.</a:t>
            </a:r>
            <a:endParaRPr b="0" lang="en-US" sz="2400" spc="-1" strike="noStrike">
              <a:solidFill>
                <a:srgbClr val="ffffff"/>
              </a:solidFill>
              <a:latin typeface="Tahoma"/>
            </a:endParaRPr>
          </a:p>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went on to earn his law degree from Harvard in 1991, where he became the first African-American president of the Harvard Law Review. Soon after, he returned to Chicago to practice as a civil rights lawyer and teach constitutional law. Finally, his advocacy work led him to run for the Illinois State Senate, where he served for eight years. In 2004, he became the third African American since Reconstruction to be elected to the U.S. Senate.</a:t>
            </a:r>
            <a:endParaRPr b="0" lang="en-US" sz="2400" spc="-1" strike="noStrike">
              <a:solidFill>
                <a:srgbClr val="ffffff"/>
              </a:solidFill>
              <a:latin typeface="Tahoma"/>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first black president</a:t>
            </a: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rack Obama has been elected as 44th President of the United States of America. He becomes the first black leader of the country in one of the biggest moments in US history. </a:t>
            </a:r>
            <a:endParaRPr b="0" lang="en-US" sz="3200" spc="-1" strike="noStrike">
              <a:solidFill>
                <a:srgbClr val="ffffff"/>
              </a:solidFill>
              <a:latin typeface="Tahoma"/>
            </a:endParaRPr>
          </a:p>
        </p:txBody>
      </p:sp>
      <p:pic>
        <p:nvPicPr>
          <p:cNvPr id="121" name="" descr=""/>
          <p:cNvPicPr/>
          <p:nvPr/>
        </p:nvPicPr>
        <p:blipFill>
          <a:blip r:embed="rId1"/>
          <a:stretch/>
        </p:blipFill>
        <p:spPr>
          <a:xfrm>
            <a:off x="6934320" y="3657600"/>
            <a:ext cx="1544400" cy="2400480"/>
          </a:xfrm>
          <a:prstGeom prst="rect">
            <a:avLst/>
          </a:prstGeom>
          <a:ln w="0">
            <a:noFill/>
          </a:ln>
        </p:spPr>
      </p:pic>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0T16:24:01Z</dcterms:created>
  <dc:creator>772617</dc:creator>
  <dc:description/>
  <dc:language>en-US</dc:language>
  <cp:lastModifiedBy>772617</cp:lastModifiedBy>
  <dcterms:modified xsi:type="dcterms:W3CDTF">2008-11-20T16:46:18Z</dcterms:modified>
  <cp:revision>3</cp:revision>
  <dc:subject/>
  <dc:title>Barack Obama </dc:title>
</cp:coreProperties>
</file>